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24022"/>
        <c:axId val="62357928"/>
      </c:barChart>
      <c:catAx>
        <c:axId val="93624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57928"/>
        <c:crosses val="autoZero"/>
        <c:auto val="1"/>
        <c:lblAlgn val="ctr"/>
        <c:lblOffset val="100"/>
        <c:noMultiLvlLbl val="0"/>
      </c:catAx>
      <c:valAx>
        <c:axId val="62357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24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A54-B22C-4E81-AB73-671AEBCB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7DE-9F79-4BE4-A5CC-48F6E938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E98-99E9-4CC6-89F6-98524DD6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100-21FE-4557-90D1-92FEE06E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73D-F872-4191-AA88-3E6F0793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48D-ACAB-4E8B-ACC7-097724C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A7A-8DB9-40F6-AE57-4615CD0C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E84-D231-4A00-89AD-D72B146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E66-F7F9-43E0-92F4-732D479B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26B-FFBF-4B86-A1DA-468206D0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8B8-C577-4583-AFFE-13F993AF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A09-898D-4318-9088-9889E31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FE895-796C-47DA-8B60-FB40A189C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