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87103"/>
        <c:axId val="46824783"/>
      </c:barChart>
      <c:catAx>
        <c:axId val="12687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4783"/>
        <c:crosses val="autoZero"/>
        <c:auto val="1"/>
        <c:lblAlgn val="ctr"/>
        <c:lblOffset val="100"/>
        <c:noMultiLvlLbl val="0"/>
      </c:catAx>
      <c:valAx>
        <c:axId val="4682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7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235-9DE0-4515-B58C-BC539A54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D53-E27A-45D8-8D1D-F1A6F1B1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582-FF45-4489-8AFF-2060C0D8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5F5-9A4B-4E55-905B-73FBBA73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DA4-B5C5-4D99-AC8E-3F476E8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5C2-D72E-4581-AA00-630EFD62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C20-A2F4-47AA-B9AA-96D3DDD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8B9-CC39-4E09-9450-67CC70F0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ED8-944B-41F0-ABF8-1A14EF7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915-2151-4F1B-A449-0431BB2D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762-62F6-4262-95A3-D7C0992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C24-69B2-4401-8003-B29CE8B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08198-3AB5-4B55-B6A5-5C12F0EC4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