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8134"/>
        <c:axId val="87207258"/>
      </c:barChart>
      <c:catAx>
        <c:axId val="9158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07258"/>
        <c:crosses val="autoZero"/>
        <c:auto val="1"/>
        <c:lblAlgn val="ctr"/>
        <c:lblOffset val="100"/>
        <c:noMultiLvlLbl val="0"/>
      </c:catAx>
      <c:valAx>
        <c:axId val="87207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8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306-AAF3-4A30-9AD3-EDBC6DFC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AC8-D323-47D0-B236-5DE40838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2EF-A7A8-44A6-91E1-4CDA0FE1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03A-2DE5-482F-857C-9F1C69A5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A2D-7E62-4296-8A14-B54FB4AB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2AA-41FC-4B51-BE34-CF9B7E07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3E3-EF58-4298-8504-BE18FE3E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4B5-7F96-47D4-88C5-41BBA273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D35-D78A-4911-A0AF-2E91DDA5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3D1-58DA-4DC8-9EF8-37BF8560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D0B-5090-4655-BCD2-FC13108B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A68-A018-40A7-9DC1-A761E704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46540-6A08-42B6-9E68-06065C3B46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