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91440"/>
        <c:axId val="75351558"/>
      </c:barChart>
      <c:catAx>
        <c:axId val="90191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51558"/>
        <c:crosses val="autoZero"/>
        <c:auto val="1"/>
        <c:lblAlgn val="ctr"/>
        <c:lblOffset val="100"/>
        <c:noMultiLvlLbl val="0"/>
      </c:catAx>
      <c:valAx>
        <c:axId val="75351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91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EBC-AA82-4CF5-ADE0-4AF5CB0E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BAE-1B70-4889-BD08-2D0FD806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AD2-2336-4F97-9E19-2A029391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CD8-8414-4123-937A-D8DF0F90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655-39BF-494A-9420-24905EAC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EDD-C8E9-46E6-8110-4AC15717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767-DFAC-464D-9A5A-3E859E4A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E4E-F769-4761-8440-F3AE91A4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2B8-9336-4F60-86CF-08ECDDED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A70-3116-4C95-B7CA-C73BD9BE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566-8B53-474C-BB98-EF0E35A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AC4F-56A3-4F70-8241-DBBEB584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2EB3B-433C-4EB8-8E0C-78FC6C157E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