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22290"/>
        <c:axId val="77466788"/>
      </c:barChart>
      <c:catAx>
        <c:axId val="64522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66788"/>
        <c:crosses val="autoZero"/>
        <c:auto val="1"/>
        <c:lblAlgn val="ctr"/>
        <c:lblOffset val="100"/>
        <c:noMultiLvlLbl val="0"/>
      </c:catAx>
      <c:valAx>
        <c:axId val="77466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22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35C-7176-4F19-AEE0-FD7CA0A0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EB8-16AE-45C2-9B2F-1F67831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C36-513B-4D59-8721-C4E17990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FF2-2693-4DB9-90E1-667A03E4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27A-A0F6-49DE-9110-CBDF2B42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F21-13B6-40A8-B017-DC5DEB74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BEB-E944-4E27-B3F5-0B092710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F5A-6F25-4BE3-8E60-9D88BD4D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1B3-077E-4839-91E0-6BC9E19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AC8-C23D-4902-8246-0C026944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479-D16E-4ACD-9C0F-F0E47079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26F-3B9E-4AAD-87AA-E0374A0D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AE909-D8F1-4629-BED7-2F6ED41733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