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15908"/>
        <c:axId val="14702650"/>
      </c:barChart>
      <c:catAx>
        <c:axId val="49615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02650"/>
        <c:crosses val="autoZero"/>
        <c:auto val="1"/>
        <c:lblAlgn val="ctr"/>
        <c:lblOffset val="100"/>
        <c:noMultiLvlLbl val="0"/>
      </c:catAx>
      <c:valAx>
        <c:axId val="14702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15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27A-2019-4376-B6DD-D74A6EB9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E5E-1416-401A-8EA9-A08AC9C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237-7A66-4241-AB10-C2F65E65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7CB-1AC2-4930-98CA-348A81E2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EAC-AC38-44EE-85AB-81522D07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CF8-05C4-4E42-91D1-411705C9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747-408D-47B3-B158-258DFA3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EFA9-E7CF-475A-8DA8-E4428CB6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010-D216-4709-AE0B-40188F8A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B8C-D1F5-4A48-8F71-3565493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CA2-BD49-489A-BA7A-9883083B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8F4-56AD-4360-9502-4243BED3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BA167-937D-474E-AC8E-8B64EB871A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