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188240"/>
        <c:axId val="47343721"/>
      </c:barChart>
      <c:catAx>
        <c:axId val="151882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43721"/>
        <c:crosses val="autoZero"/>
        <c:auto val="1"/>
        <c:lblAlgn val="ctr"/>
        <c:lblOffset val="100"/>
        <c:noMultiLvlLbl val="0"/>
      </c:catAx>
      <c:valAx>
        <c:axId val="473437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882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4790-750B-4881-A262-47B61979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39DB-4E3D-4CE7-8CCC-45BAC781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5F8C-6006-4710-B82F-199A48F3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8B3D-AD59-4D60-8AEB-D4347C03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3AAB-31F3-4877-993D-9B90E92E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88B0-24F3-4F63-B368-FB9402CA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355D-2BDB-4D60-83B5-DCEC1F00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8D84-5B78-4CFA-8372-2FB2E555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2AD6-53DA-46DE-9C11-F328B6B6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F399-6F47-4799-AC7F-689A9FDB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994A-3875-4917-A323-C2269E5C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7950-3031-49FB-AA4A-0528D16A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F5A7A-7F57-43BB-B312-EFCFC8A7E9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