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85127"/>
        <c:axId val="45269848"/>
      </c:barChart>
      <c:catAx>
        <c:axId val="99085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9848"/>
        <c:crosses val="autoZero"/>
        <c:auto val="1"/>
        <c:lblAlgn val="ctr"/>
        <c:lblOffset val="100"/>
        <c:noMultiLvlLbl val="0"/>
      </c:catAx>
      <c:valAx>
        <c:axId val="45269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85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604-3069-4EF3-9C34-FC8C239C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150-649E-4E4F-81B2-17ABDCE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D7A-2FE8-4722-A15B-E12B91DC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F4B-41C3-486E-B1EB-B5565D86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AAF-1C0F-4002-9709-B3457F6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B05-D2CE-45FD-B37B-F11F5B6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EDB-4E86-4877-96AD-C56D7F7A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561-3B26-4880-828D-B322777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CEA-A0C9-4224-95AB-666399B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E3D-A1C0-49D6-9FA9-E265FF8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33F-D7B0-4D22-9E21-CC1FC91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FB6-A939-4038-A8FC-674D48A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B983B-9C39-4F21-8ACC-43F1BEE3F5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