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40911"/>
        <c:axId val="11992844"/>
      </c:barChart>
      <c:catAx>
        <c:axId val="83940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2844"/>
        <c:crosses val="autoZero"/>
        <c:auto val="1"/>
        <c:lblAlgn val="ctr"/>
        <c:lblOffset val="100"/>
        <c:noMultiLvlLbl val="0"/>
      </c:catAx>
      <c:valAx>
        <c:axId val="11992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40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A2E-9715-4847-A0B2-8B0463E7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1F2-C5F5-4142-82CB-2191605C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14F-F0AF-4D0A-8EEB-013D8B36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E61-456B-4A68-B492-E261898A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6F1-1F54-4191-B49C-AF4B41B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93F-260B-41A9-9B0B-754AE6BF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4F3-DECF-4389-ACE5-8AEBA7E7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199-E9F2-4D73-A85D-BEE19657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FFD-360D-432F-B1F7-DA5C7FAE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EF0-F03D-4B71-8113-B54F0425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124-ECE5-43ED-B878-CE11B3C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A26-EE6B-4AF7-AF8A-2EE9650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DAA1A-5EE7-41FC-8B99-AFFE8241A2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