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25917"/>
        <c:axId val="69063236"/>
      </c:barChart>
      <c:catAx>
        <c:axId val="45259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063236"/>
        <c:crosses val="autoZero"/>
        <c:auto val="1"/>
        <c:lblAlgn val="ctr"/>
        <c:lblOffset val="100"/>
        <c:noMultiLvlLbl val="0"/>
      </c:catAx>
      <c:valAx>
        <c:axId val="690632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59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8D54-2672-4A4D-B5C4-A8B74C5C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C021-B2E4-494C-B13E-B0A28EC3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9EE3-F28A-4B0D-888A-70E1A1209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E189-1514-49CA-BE0F-5F741469D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2250-D9FB-4FD2-8515-5B5E8668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7B2B-F882-4670-ACC5-F56A3756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4553-28FD-4A9F-80CC-5E8F8449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40A2-862B-43CD-BCD6-D70A2249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F40D-535C-4B0B-B52A-39570776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6BCE-C256-464C-ABE2-92EEECC3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A69D-775C-4A17-8D6A-BD89DBB8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6219-305A-4C88-9575-375FDB6B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24302-2856-4D85-9227-E785B78ACA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