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23222"/>
        <c:axId val="50338557"/>
      </c:barChart>
      <c:catAx>
        <c:axId val="52423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8557"/>
        <c:crosses val="autoZero"/>
        <c:auto val="1"/>
        <c:lblAlgn val="ctr"/>
        <c:lblOffset val="100"/>
        <c:noMultiLvlLbl val="0"/>
      </c:catAx>
      <c:valAx>
        <c:axId val="50338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23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E28-33EB-4185-8169-87D35653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30C-93F1-447A-A33F-05F8599F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163-D578-45D5-9015-F76A2AA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7D1-0B8A-407A-90D9-DD132823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6AA-CC27-4108-BD30-CA5C9B7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04E-80CE-4DA5-8BB0-64BE2373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27F-94AD-465A-81BE-065E1B1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776-4E90-43D4-AE9E-5DC797A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BE9-4A39-4176-80D7-304EDF76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65C-1A81-4113-8334-ECE9A8A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7C5-260B-4033-9A67-B455219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944-B8BA-4B57-9B45-36D69198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68AE4-DE28-40C8-8928-F30587604A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