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26308"/>
        <c:axId val="62816429"/>
      </c:barChart>
      <c:catAx>
        <c:axId val="20226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16429"/>
        <c:crosses val="autoZero"/>
        <c:auto val="1"/>
        <c:lblAlgn val="ctr"/>
        <c:lblOffset val="100"/>
        <c:noMultiLvlLbl val="0"/>
      </c:catAx>
      <c:valAx>
        <c:axId val="62816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6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DDF-C44A-4738-B5C4-1D4498A7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C3A-1508-4F64-9F3B-30C624B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60F-8100-4CBC-BD86-AA21BCE7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1DD-E44C-416E-99C7-A1DAC114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0D-D3D2-491D-9DD5-2DEAAE9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856-4B52-4296-B188-C0D8F56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BDD-46FF-479A-A395-EB95EB67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A2C-B5E4-4973-A69D-BF6990A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B28-9F92-4523-B232-69EB21B4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846-45DD-4FFB-A28C-C75A79D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221-34D7-4A31-ABD4-304E66B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52A-1F5B-4FAE-AAFA-53BE623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A1BDE-7E79-4C93-90C0-A23F28991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