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45427"/>
        <c:axId val="16425783"/>
      </c:barChart>
      <c:catAx>
        <c:axId val="66845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5783"/>
        <c:crosses val="autoZero"/>
        <c:auto val="1"/>
        <c:lblAlgn val="ctr"/>
        <c:lblOffset val="100"/>
        <c:noMultiLvlLbl val="0"/>
      </c:catAx>
      <c:valAx>
        <c:axId val="16425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45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142-5C34-44FC-81F6-4AEABFA0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E03-D4E2-4346-9FCB-EBFCF0D0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63F-E912-4598-B232-68B20CF2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0AF-93E2-4229-98A6-C39B6EFE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9F8-E210-4107-B525-5CBDC7DA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8AD-5F87-4D30-9BAF-2FDB12F2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63B-4105-4260-A299-5671018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015-A1FB-43AB-9F9D-BB4C9C08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D79-DF38-428F-9549-1AD6FE27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D63-B5A1-4AB1-85D0-C7F6FDC1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FD7-8C05-4199-8DBF-62B21A6B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D1A-DF80-41C8-A7B5-E70D16A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DA5D1-5248-4A9F-9DBD-10633178F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