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90328"/>
        <c:axId val="50681271"/>
      </c:barChart>
      <c:catAx>
        <c:axId val="105903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681271"/>
        <c:crosses val="autoZero"/>
        <c:auto val="1"/>
        <c:lblAlgn val="ctr"/>
        <c:lblOffset val="100"/>
        <c:noMultiLvlLbl val="0"/>
      </c:catAx>
      <c:valAx>
        <c:axId val="506812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903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AF2C-1A38-414C-B7B1-726F91491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25B-7AC4-459B-AE1E-BA0F31C9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7499-AB1B-4D4A-9853-35639F2F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4F344-42F8-4306-99B4-4C835FF5D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A5005-561C-41ED-805F-3D215B3F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FC2A-019F-4B7F-9727-2F179C13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AAE9-7020-4753-8A85-1D453772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9755-302B-4B46-A513-F92C2E5A8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3AB-782A-435F-B99E-E9DD03A8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B7B8-631A-4A1C-B9C7-65E32548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4D6D-6737-49F4-81FB-8D2B02F5C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C30C-DA41-412E-819D-43F144E5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409064-C9E9-46D7-8F37-822E153DC5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